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Design Portfolio</a:t>
            </a:r>
            <a:br>
              <a:rPr sz="8400"/>
            </a:b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Storm The Castle 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By: Michael Arpasi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Design stiles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7251840" y="2768760"/>
            <a:ext cx="4457520" cy="308592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914400" y="2286000"/>
            <a:ext cx="6238800" cy="707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Arm 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lvl="1" marL="13334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e arm of the catapult is the lever that throws the object by using a spring or rubber band that pulls it or pushes it fast enough to make the object become aloft.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ivot Poin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e pivot point of the catapult is a triangle that the arm rest on. When fired the arm becomes a lever that follows forward until the pivot points stops it.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Launch Sac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e launch sac is the part of the catapult that holds the object being thrown. It it placed on the arm of it. 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riggering devic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5120" y="24634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e triggering device is on the back connected to the arm and the base board of the catapult. It has to be with a string on it because on the front of the arm there should be a band that will pull the arm down making it throw the projectile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Gill Sans"/>
              </a:rPr>
              <a:t>Materials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415800" indent="-288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pieces of wood 12 inches lo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15800" indent="-288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pieces of wood 6 inches long ( two of these pieces have the ends cut at 45 degree angles - I will explain more about thes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15800" indent="-288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ssortment of small screws and/or nai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15800" indent="-288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large rubber band or several smaller on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15800" indent="-288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eye hooks (to the right of the rubber ban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15800" indent="-288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glue (optional but a good idea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15800" indent="-288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four inch square piece of cardboard or poster board (This is the basket that your projectile sits 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15800" indent="-288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Times"/>
              <a:buChar char="•"/>
              <a:tabLst>
                <a:tab algn="l" pos="139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etal bar at least 6 inches long, I am using the axle from an old toy car (thats the wheel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